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ADC2-1036-42A8-A7F3-E99D2CA9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43FD-1DAC-4921-8F2F-DC6A2354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5D55-251A-4CF5-A868-6E129CE5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EB3-4545-44EC-9137-E4FDFB78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33B5-353D-4145-B8C9-B6B80876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004-EC99-4603-AD0C-18E81C10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E40-5289-4575-8E79-4DD15982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629B-26BB-4455-B2E5-F64065E5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5BA-9114-48E4-9025-F75F1446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9E66-FB62-4C8B-9272-8DFF4EE0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F2D-72B3-4D9B-97DF-480EA654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7280-A2BE-4462-AC5F-818B1A8F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77B7-9A62-45C7-92A2-F5D91D44E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94 Boh sa v Kristu sklon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sa v Kristu sklonil k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u zjavil národ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šnych dvíha k výši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večný máme v ň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lo tejto pravdy m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vete spásne posla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ho cirkev Páno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lní vrúcne, odda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keď dielo dokon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ho Ducha poslal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každý v pravde stá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e ako Ježiš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ôležitú ľuďom zv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sme Duchom pude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nažme sa ich k Bohu vi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boli spas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áročiami pieseň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ón pre veky ud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piesni tej sa pridať sm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ša chvála jasav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sa učí s Kristom ž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arom lásky zahorí;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vždy môže šťastný by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mu srdce otvorí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2T10:34:48Z</dcterms:modified>
  <cp:revision>20</cp:revision>
  <dc:subject/>
  <dc:title>Je veľký náš Pán, on slávy je Kráľ Nech do všetkých strán  spev vrúcnych znie chvál.</dc:title>
</cp:coreProperties>
</file>